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8771-9842-4FA9-ADBF-B3BBA96CC5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AA20-F870-4771-9363-718D35F61A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E45-0643-445E-989F-3D3FE358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6401-28C4-4786-AE99-4D4E913BA6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E55-5462-4103-B068-58081088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43EF-4CC3-4A1E-884E-DCDDCB82FB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E12A-CA67-4C6E-A508-EFDB8251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D4B-4C87-435F-808E-1B06BA57EC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B6FF-8810-4B3E-A2F9-D7C1307C7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C09-7D40-4BF5-9847-41F560AA74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F1F7-DC09-490C-98F1-6C03A463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7479-5EA8-4EB6-BF7F-896FB37EF0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EAB3-7ADC-404E-8311-39AEB570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593C-6BBB-4C4B-BBA7-18862C230F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C788-348E-4A12-9168-5805DCDC5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30B-14E0-4DB6-BBA1-0173A6428C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8EB7-B8F1-4E7F-B890-47D713C7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3774-F04E-4969-A4D4-0A215E75E6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59C1-9D19-4D5F-B691-EBA7F977B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EA6-0D27-4C02-A284-E3826C2132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B74F-33A2-4397-B5DD-88325B77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A84-1B5B-4D42-96B6-0C7954AE8F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481-846E-4D07-972E-0338E3FA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B44-AA56-42AD-9510-FA7EE7E52F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A4F6-9295-417C-98E7-750447BE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CAE9-7FD1-4A9A-8FCC-557779F947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DAA3-186B-4E58-BF24-FE0C6BC4C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046-7F1E-495F-B12C-B21173A1F9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06D5-042E-4F74-9E3B-EADC161A7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75C0-697A-4FC5-8C07-689C92CE805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E5C-8918-4F5A-BAE8-5F8299E8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FD2-D051-4123-9E96-D3808B5747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6445-C366-4B3C-BEBA-A598DEE1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4C1-8502-4AC8-8DBE-4D5CCDF73C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0277-C0A4-4561-A4AD-6F28E5B8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046B-2771-4A45-8548-71A0C06E18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3A5-3E32-413A-AAF5-3C88F24D2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7B8-91AA-4F65-8B68-5B05D7DD23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7A85-FB4F-4705-8BE0-6B91ED12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DE4-C2CD-4456-9E46-D609ECD1CF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EAFB-44DB-4C43-9241-6B4C1F27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3771-8C79-4B33-A2A0-43E73504A0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D37-694C-48A3-942A-34D4447F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9936-54CF-4C16-A2AF-98F25D5E67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3B48-D523-4939-960C-4CC27309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DD3-3BBB-40D0-B842-C82713B4A1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5EAC-0307-41FC-B64D-871011BD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D5C3-5EAB-49C0-8E56-915A15684E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A1CE-3EAB-4E2B-8F9F-A959A306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A32-1FAF-4A02-BECA-5274EDF4DA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7B4-B4A3-4258-85BD-4B657320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968-E8A6-4B35-843F-C1A1123A0F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CFE4-F588-410D-B992-B09DB105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FE60-497C-473E-A53D-D93D8A53CE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A0A-3FE2-47EE-91CD-D98DEA47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672-22E0-46D6-969D-AE440C4080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AA68-16C4-4EF8-A10C-D5051A70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614-31CD-46A8-9128-91B0EC7101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2A4-9DC8-49FC-B81A-1F4C91FD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39B-F417-4403-92AB-0B309B3E83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B5F-84D3-4735-B056-946E8E8D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3C4D-2E24-4998-921F-564197DFB4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A081-37A1-4785-A8CC-9B5A1E01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CBFC-C247-4DB9-9DFF-F622664C06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921-0D37-48A5-AE40-CBDCF60D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990-BD58-47B9-B3BD-B158ABB74B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F5E8-89B2-4697-AB8A-5310E61B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0950-F84C-4F23-B9D9-A4EF718E47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B8C1-CF3F-4174-8867-91C73BC8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784-8010-40E2-AB40-9C8356E3F4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035C-2A6C-4410-9CBF-37AEC835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61CE-000C-42A5-8BC9-D83BF453FF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9E6-F19C-40CF-8662-FE951E52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825-D8C7-4C8A-BC9A-FAA3F7B70F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725-C839-4F30-A61C-0B6E5CBF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26FB-4AB8-496F-8C22-8CD5F02F53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78E-DDDB-4EB3-B194-99228EEF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568-D5AA-4800-AE71-9473A171F7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3370-A247-4F12-9FF3-710E16F50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75BF-6CAB-4555-9C05-FF845F2C04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B1A-E987-429A-84A1-ABBECF91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456B-46E4-4846-975A-AE5F3CCAD8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284C-4CFB-40B0-9A90-4C05E217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20C4-D2EC-46B5-8C05-B12D75A8FC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12D-B1D4-49EF-93C0-ABB77C1D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F2E-A4DD-41FC-88E6-0A5B080785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105-3877-48F2-87E3-AE2CDE3F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1117-B94C-4082-A325-F6C73673A7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D4D-7370-49F9-A4A2-DE12BC75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5618-69AD-431E-A518-102DA594C4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1FB-51A2-4A5D-A924-4D177F38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F24-6BC6-46F9-A2E7-A6116D565B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42DF-2C3E-4D2C-8B9C-3F7F45DB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FD7-C9C3-4DD5-A4D7-47DE744419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D5D-FA59-46E5-894E-00FF04872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374A-5853-4FA6-AE1F-928E93217E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7652-B9EC-4ED6-B6EC-AC4C4139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306D-5090-4E12-B30E-9CB7962214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77C0-9358-46DA-B405-99E807129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ADBEE-B397-4F45-B8B9-8E6E7CFB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CD03-C427-4EBC-B9D8-7272ACB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58ADA-41B3-48B8-A56A-BF30B69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D2C4D-965F-4F0C-A31A-A73ED6A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09C2D-575A-464D-ABC0-88F741CC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1C707-2F54-4D96-8DB6-E8C7335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C8317-9EE7-4FB1-9ACF-2F2CCA5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1027D-5F4D-4053-80FB-C1705FF7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64F39-C6D5-428D-915E-F49819C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98BD7-1904-4454-9F02-230503E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60F56-2D32-454E-BDCC-7D90C3B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DAEE3-ED22-4727-B7C3-4CF7A0F9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5E44E-3372-450B-BD2F-FC8B3910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261FC-5CA7-4660-80E0-73E1F3A8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68781-C627-4831-BCB2-0013BEE6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5C2A5-08F8-47E3-BFB7-BAD27FB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0029C-7FAB-438E-8446-6F530ADB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B2544-706E-4AEF-998F-31E1692C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83119-88AE-4BF1-8E85-177EE3C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AD02E-711F-431D-BAE9-3E7F578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D6028-CBC6-4F6B-B16E-8F98E60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5FCFF-1C67-4177-8407-165D1567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070C7-16F3-4C7C-A760-C6293276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D936D-87A2-4C6E-8975-53F64672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0B854-C212-4EC8-AEF1-FB8DD4D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74401-5F06-4E4D-B6A4-BB1E19F2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DFE4F-5328-4AE7-8790-488BA32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4D496-5CC8-44CE-B3DF-5871149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F15DF-CFD0-419E-A3EB-69779246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A99B1-3292-44EB-8BE6-F60DE8C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00F4A-57EA-4104-8999-9E090EF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F180C-23D6-4ECE-A6B0-1D755FA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26379-895B-40D0-9FB1-BCD79EC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AEF9D-B9BE-405B-9AC6-9E5A4E59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E2E68-B6E4-4381-B0B0-297F56F3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D88C7-3E76-44C4-AA60-8C7711D4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F2AB0-378E-405F-A5D7-77E4303C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FE9FB-C123-4CC7-A236-5A04A762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5B714-4C22-4709-BCD5-E79850E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2DCA6-41F4-4F56-A39E-40160CB3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A9009-3F89-4778-BB35-DFABE7AA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EBA30-86BC-4101-8C71-85E618A7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000CC-11B1-446C-882A-CF8D8CC2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16969-7EDE-4A54-943F-C74F067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31BCC-50DE-4B3F-BEDF-322CC0A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21C8B-D220-4E1C-8E3E-A54D2E17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8B65C-09F9-4046-80FC-2A69974D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399BB-5CA4-4B57-97C6-7FC20802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E1B-F68B-421B-9CA0-44C571D6041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ED5-3320-4567-8193-8AC137BDE2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88B-44B8-4086-8849-F232EA5D95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AF97-2D39-4C05-B9FF-BDAF9CD14B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F31-88A8-45AB-AEE2-E6EEE858C03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3 2014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XML   Sch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1413000"/>
            <a:ext cx="7308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2812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una delle attività del working group su XML. Ha prodotto 7 generazioni di working draft, per poi divenire recommendation nel maggio del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viso in tre par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0: Primer (un’introdu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1: Structures (struttura del documento 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2: Datatypes (modello dei dati e meccanismi di estensione dei ti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ormato di un XML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documento di XML Schema è racchiuso in un elemento &lt;schema&gt;, e può contenere, in varia forma ed ordine, i seguenti elem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nclud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inserire, in varia forma, altri frammenti di schema da altri doc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simple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tipi denominati usabili in seg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elemen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elementi ed attrib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docu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serie di attributi e gruppi di content model complessi e denomi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notazioni non XML all’interno di un documen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n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esprimere commenti per esseri umani o per applicazioni diverse dal parser di XML Sch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ipi in 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79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usa i tipi per esprimere vincoli sul contenuto di elementi ed attribu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semplice è un tipo di dati che non può contenere markup e non può avere attributi. In pratica è una sequenza di caratteri. E' una specificazione (e restrizione) di CDATA o #PC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complesso è un tipo di dati che può contenere markup e avere attributi. E' l'equivalente di un tipo strutturato o mi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predefinisce un grande numero di tipi semplici: string, decimal, float, boolean, uriReference, date, time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tipo semplice è caratterizzato da alcune proprietà, det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ce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ne descrivono vincoli e formati (permessi ed obbligh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data possibilità di derivare nuovi tipi, sia per restrizione che per estensione di permessi ed obbligh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sempli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menti e gli attributi sono istanze di un tipo. I tipi semplici sono tipi stringa non ulteriormente strutturati, e possono essere usati per entramb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Schema non fa nessuna distinzione tra attributi ed elementi con content model te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price" type="xsd:decima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de" type="xsd: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definiti molti tipi semplici, che possono essere usati liberamente nelle definizioni. Il nome di un tipo semplice predefinito appartiene allo stesso namespace di XML Sch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derivare i tipi semplici per restrizione, unione o 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lista parziale di tipi semp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caratte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i valori  'true ' e 'false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con segno: +65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(con segno e punto): '-34.15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 reale in notazione scientifica: '12.78E-12 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stringa per una durata temporale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PnYnMnDTnHnMn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Ad esempio  'P1Y2M3DT10H30M ' è la durata di 1 anno, 2 mesi, 3 giorni, 10 ore, e 30 mi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data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CYY-MM-D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'2001-04-25 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 valore di orario nel formato hh:mm:ss con una appendice opzionale per l'indicazione del fuso orario. Es.: '13:20:00+01:00 ' significa 1:20 PM in Middle European Time (+01:0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xBinar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dati binari arbitrari in formato esadecimale: '0FB7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yU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a stringa di un URI, come "http://www.w3.org/ ". Accetta sia URI relativi che assolu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D , IDRE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senza whitespace con le stesse proprietà e vincoli di ID e IDREF nei D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zione per restri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arte da un tipo già definito e ne si restringe il set di valori leciti attraverso l'uso di fac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 type="Teditor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data" type="Tdatarecent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 Tdatarecen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a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Inclusive value="2006-01-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4376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tipo io posso precisare dei facets, delle caratteristiche indipendenti tra di loro che specificano aspetti del 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ngth, minLength, maxLength: numero richiesto, minimo e massimo di carat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Exclusive, minInclusive, maxExclusive, maxInclusive: valore massimo e minimo, inclusivo ed esclu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ision, scale: numero di cifre significative e di decimali signific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ttern: espressione regolare che il valore deve soddis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umeration: lista all’interno dei quali scegliere il valore (simile alla lista di valori leciti degli attributi nei DT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, duration, encoding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-45900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un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1640" y="765000"/>
            <a:ext cx="79437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insieme dei valori leciti è data dall'unione dei valori leciti di due tipi sempl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rezzo" typ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ecima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Exclusive value="0.0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grati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l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437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valori leciti una lista separata da virgole di valori del tipo semplice specific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impleType name="TListaDiNumeri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list itemType='xsd:integer'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ord" type="TListaDiNumeri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area coord="25,30,75,90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anonimi e tipi denomin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i tipi possono essere predefiniti (solo x tipi semplici), denominati (con una definizione esplicita, come nei casi precedenti) o anonimi (interni alla definizione di un el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4760" y="1341360"/>
            <a:ext cx="6807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i per introdurre XML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mitazione dei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oduzione di tipi ed ele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i elementi ed attrib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i aspetti rilev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72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tipi comples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ANY ed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m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unque tip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con attrib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ono tipi complessi predefiniti (o quas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rivazione può avvenire per restrizione o estens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ANY ed EMP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5760" y="1341360"/>
            <a:ext cx="7734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nything" type="xsd:an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name="emptyTypeWithAttribut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first" 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second" type="xsd:decima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2" type="emptyTypeWithAttribut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struttura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94920"/>
            <a:ext cx="784836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si usano virgole e barre per specificare obblighi e scelte tra gli elementi di un content model compl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si usano &lt;choice&gt;, &lt;sequence&gt; e &lt;all&gt;. Questi sostituiscono anche le parente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equenza (A, B,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celta (A | B |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choi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mpless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riprende l'operatore &amp; di SGML: tutti gli elementi debbono essere presenti, ma in qualunque ordine. (A &amp; B &amp; C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ll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al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B.: ci sono restrizioni: la struttura all può solo essere l'unica struttura di un tipo complesso (non posso usarla in espressioni più comple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ggruppamento non ha bisogno di parentesi: (A, ( B | C)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usano gli attributi minOccurs e max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permette non solo i valori 0, 1 e infinito, ma qualunque numero int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inito è "unbounded", e può essere usato solo per maxOccu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default entrambi valgono 1. Inoltre, minOccurs ≤ 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optional" type="x" minOccurs="0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repeat" type="x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free" type="x"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counted" type="x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2" maxOccurs="4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532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 specificare questi attributi non solo per gli elementi, ma anche per le strutture (choice, sequence, al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 esempio, (A,B,C)*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 minOccurs="0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ure, (A,(B|C)+)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choice minOccurs=”1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t model misto aggiunge semplicemente l’attributo mixed con valore “tru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lunque espressione di elementi viene rispettata, ma il PCDATA può comparire ovunque, prima o dopo questi elem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!ELEMENT para   (#PCDATA | em | strong)*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"paraContent" mixed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hoice minOccurs="0" maxOccurs="unbound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em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strong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ara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i possono fare cose più comples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review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mixed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 il #PCDATA può comparire ovunque prima e dopo questi elementi, ma questi debbono essere posti esattamente in quell'ordine e in quel num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odel con attribu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872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 tipi complessi, gli attributi vengono sempre posti alla fine del content model, in una lista aperta di elementi &lt;attribute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complesso strutturato con attribu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ELEMENT Z (A,B,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ATTLIST Z y CDATA #IMPLI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element name=“Z” type=“Tz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complexType name=“Tz”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ttribute name=“y” type=“xsd:string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n attribu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5640" y="1219320"/>
            <a:ext cx="77994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tipi semplici non possono avere attributi. Qualunque elemento preveda attributi è necessariamente di un tipo compl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differenzia allora tr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comples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a è la definizione di un tipo il cui contenuto è semplice ma che prevede un attrib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”Tprezz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xtension base="xsd:decima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attribute name="valuta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rice" type=”Tprezz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lmente si pensava che XML servisse solo per i doc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è più semplice di SGML, è più generale ed aperto di HTML, è lo strumento ideale per esprimere documenti di testo, siano essi libri, manuali o pagin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’enfasi iniziale era su internazionalizzazione, strutturazione, facilità di conversione, ecc. Raccoglieva in pieno l’eredità di SGML. Lo sviluppo di XML era difatti condotto da membri della comunità SG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re 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due modi per derivare tipi comples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restri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i limitano ulteriormente i vincoli espressi: modificando minOccurs e maxOccurs, fissando dei valori per certi elementi o attributi, o imponendo ad un elemento un sottotipo del tipo origin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est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ggiungendo al content model nuovi elementi o nuovi attributi. Attenzione: i nuovi elementi sono posti necessariamente alla fine degli alt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restrizion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94376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 deriva per restrizione imponendo maggiori vincoli sui vincoli già imposti dal tipo base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triction by subsum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rivazione per restrizion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questa non va be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element name="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-316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esten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8724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estrizione per estensione aggiunge elemen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la fi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content model prece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nuovi attributi non ci sono problemi, mentre per nuovi elementi bisogna assumere l’esistenza di una sequence tra il vecchio e il nuovo content model.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'nomecognome'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nome’ type=‘xsd:string’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minOccurs='0’ maxOccurs=’unbounded'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cognome' type=‘xsd:string’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’nomecontitolo’ 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extension base=“nomecognome”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&lt;xsd:element name='title’ minOccurs='0’ type=“xsd:string”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re elementi ed attribu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94376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gli elementi &lt;element&gt; e &lt;attribute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sono posti all’interno del tag schema sono elementi ed attribu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ossono essere root di document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menti sono usabili solo all’interno di elementi che li prevedono come ti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hanno vari attributi importa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me: il nome del tag o dell’attribu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loc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f: il nome di un elemento o attributo definito altrov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glob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ype: il nome del tipo, se non esplicitato com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Occurs, minOccurs: il numero minimo e massimo di occor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xed, default, nillable, ecc.: specificano valori fissi, di default e determinano la possibilità di elementi nul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872480" cy="46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posta all'interno del tag &lt;schema&gt;. In questo caso l'elemento o l'attributo è definito in maniera assoluta. L'elemento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c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inserita all'interno di un tag &lt;complexType&gt;. In questo caso l'elemento o l'attributo esiste solo se esiste un'istanza di quel tipo, e l'elemento non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154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all'interno di un tipo complesso fare riferimento ad un elemento globale, usando l'attributo ref invece che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chema..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librierivis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hoice maxOccurs="unbounde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libro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rivista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libro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rivista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Gruppi e gruppi di attrib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848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possibile raccogliere gli elementi e gli attributi in grup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”A”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xsd:complexTyp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group ref=”elem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attributeGroup ref=”attrs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group name=“elemA”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Group name=”attrs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p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q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attribute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l’unico posto dove mettere note e istruzioni di compilazione sono i commenti. Però i commenti sono a perdere: possono essere mangiati in qualunque fase dell’elabor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, invece, esiste un posto specifico dove mettere note ed istruzioni, l’elemento &lt;annotation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lemento &lt;annotation&gt; può contenere elementi &lt;documentation&gt; (pensati per essere letti da esseri umani) oppure elementi &lt;appInfo&gt;, pensati per essere digeriti da applicazioni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’pippo'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documentation&gt;elemento pippo&lt;/documen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 Il resto della definizi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a dichiarazione di targetNamespace definisce il namespace del documento da valid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Gli attributi elementFormDefault e attributeFormDefault permettono di controllare se l’uso del prefisso è necessario per i tipi non globali.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chema xmlns="http://www.w3.org/2000/08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xmlns:po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argetNamespace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ttributeFormDefault="un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A”   type="po:prov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C”   type="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 name=”po:prov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“B” type=“string”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ref=“C”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sce poi l’idea che XML possa servire per qualcosa di più: XML è (anche) un linguaggio di markup per trasferire dati: un meccanismo per convertire dati dal formato interno dell’applicazione ad un formato di trasporto, facile da convertire in altri formati inter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ensato per la visione umana, ma per essere prodotto ed usato da program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è un’interfaccia (Adam Bosworth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utore e lettore, attraverso XSL e XLink, per portare significato tra creatore ed 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pplicazione ed applicazione, attraverso XML Schema, per esprimere contratti sui formati, e verificarne il rispet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69608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o che i namespace permettono di fare è di specificare regole di validazione solo su alcuni e non tutti i namespace del documento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"htmlElemen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any namespace="http://www.w3.org/1999/x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nOccurs="1" maxOccurs="unbounde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Nell’attributo namespace dell’elemento &lt;any&gt; posso specificare o un namespace vero e proprio, o i valor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an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ben for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loca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non sia qualificato (cioè privo di dichiarazione di namesp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other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tranne il target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371240"/>
            <a:ext cx="7799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anche questo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ook xmlns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7872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invece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attributi elementFormDefault e attributeFormDefault controllano se gli elementi e gli attributi locali siano per default qualificati o non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efault sono NON qualificati, il che è ragionevole per gli attributi, e un po' una sorpresa per gli elementi. Si noti ad esempio che in RDF sia gli elementi che gli attributi debbono essere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endere la o la seconda versione del documento valido, dobbiamo porre elementFormDefault a qualificato, altrimenti non funziona n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920" y="1066680"/>
            <a:ext cx="78724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clusioni e importazion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6920" y="1143000"/>
            <a:ext cx="77281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esistono meccanismi per dividere lo schema in più file, o per importare definizioni appartenenti ad altri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de: Le nuove definizioni appartengono allo stesso namespace, ed è come se venissero inserite direttamente nel docu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efine: come include, le definizioni appartengono allo stesso namespace, ma possono venire ridefiniti tipi, elementi, gruppi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:  le nuove definizioni appartengono ad un altro namespace, ed è l'unico modo per fare schemi che riguardino namespace multip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rgetNamespace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:cd="http://www.w2.or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 namespace="http://www.w2.org"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schemaLocation="http://www.w2.org/s1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amespace multip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re più namespace nello stesso documento significa avere più targetName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targetNamespace (volutamente) è un attributo di xsd:schema, quindi è possibile averne al massimo u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estire più namespace è necessario separare la gestione dei namespace in più xsd:schema, ciascuno con il proprio targetNamespace, e farne un import in un unic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gli schemi coinvolti debbono però avere le dichiarazioni di namespace appropri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amespace multipl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chema 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due="http://www.sito.org/du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tre="http://www.sito.org/t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targetNamespace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elementFormDefault="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due" 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du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tre"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tr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a" type="myType"/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complexType name="myTyp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due:b" type="du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tre:c" type="tr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complexType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icità e chi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8724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è possibile richiedere che certi valori siano unici, o che certi valori siano chiavi di riferimenti, analoghi alla coppia ID/IDREF in XML “classico”. Tuttavia, è possibile specificare pattern molto complessi come elementi chi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ic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unique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author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title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uniqu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ità refer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code"/&gt;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ref name="list" refer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list/objects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re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faccenda del trasferimento dei dati si semplifica: i documenti strutturati e gerarchici sono un formato ragionevole di sintassi praticamente per qualunque cosa: documenti di testo, record di database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a W3C Note di Agosto 1999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ttp://www.w3.org/TR/schema-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Many data-oriented applications are being defined which build their own data structures on top of an XML document layer, effectively using XML documents as a transfer mechanism for structured data;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ferirsi ad uno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4376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v:pippo xmlns:fv =“http://www.fabio.org/Pippo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mlns:xsi=“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http://www.w3.org/2001/XMLSchema-in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xsi:schemaLocation=“http://www.fabio.org/pippo.xsd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v:pipp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’attributo schemaLocation dentro all’istanza del documento XML diamo un suggerimento sulla posizione dello schema al validatore (ma la stessa informazione può essere data off-line, ad esempio perché predefinita, o in un header della connessione HT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e buona for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1640" y="1294920"/>
            <a:ext cx="7583400" cy="45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buona forma di un documento XML è una proprietà puramente sintat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lidazione, viceversa, è la verifica di un impegno pres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formato, ad un livello già semant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i impegno a scrivere dei documenti che siano formati da capitoli, ciascuno con un titolo e vari paragrafi, e ogni immagine con la sua didascali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sprimere documenti di testo, i DTD probabilmente bastano, ma per esprimere blocchi di dati strutturati, è necessario un meccanismo di verifica più raffin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è stato pensato per fornire quel supporto di validazione che i DTD permettono solo parzialmente, in particolare sul contenuto degli elementi e degli attributi del documenti X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76360" y="1752120"/>
            <a:ext cx="7439040" cy="39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ul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offrono le entità parametriche per tutto: content model ripetuti, frammenti di DTD riusabili, modularizzazione delle specific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off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meccanismo di inclusioni di file(differenziato e sofisticat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tipi gerarchico e comp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specifica di frammenti riutilizzabili di content model e attribut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dei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ignorano i namespace. E' molto complesso far convivere DTD e qualifica degli elemen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permette esplicitamente di qualificare gli elementi e gli attributi, e fornisce molte funzionalità di estensione o limitazione dei vincoli sugli elementi a seconda del loro name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ncoli su elementi e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TD permettono un ragionevole controllo degli elementi strutturati, ma poca flessibilità sui content model m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non permettono vincoli sugli elementi di testo (#PCDATA e CDATA) a parte le liste di valori ne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amplia il set di vincoli per gli elementi strutturati, ed è molto più flessibile negli elementi con CM mi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permette di definire tipi semplici, ovvero di esprimere vincoli su dati di tipo stringa, in maniera completa e sofistic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azione espl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gare documentazione per esseri umani in un DTD significa inserire commenti XML dentro al DTD. Questo è limitante e fragile (i parser eliminano  i commenti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permette di inserire annotazioni in maniera esplicita e controllata, in maniera che sopravviva al par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piè di pagin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Next: XML Schema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9/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ass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TD usano una sintassi propria e particolare, che richiede parser appositi e strumenti di generazione e verifica apposi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usa XML come sintassi. Tutti gli strumenti che si usano per XML sono immediatamente utili: parser, visualizzatori, verificatori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ntro, XML Schema è estremamente più verboso, tre o quattro volte più lungo del corrispondente DTD, e molto spesso meno chiaro da legg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state molte obiezioni su questo specifico aspetto, ma TBL ha specificamente insistito per ricondurre tutto ad XML (altrimenti, che meta-sintassi sarebb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</cp:lastModifiedBy>
  <dcterms:modified xsi:type="dcterms:W3CDTF">2013-09-30T15:05:11Z</dcterms:modified>
  <cp:revision>101</cp:revision>
  <dc:subject/>
  <dc:title>Diapositiva 1</dc:title>
</cp:coreProperties>
</file>